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1FE-58F5-40D5-ADEC-81ED1B67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AF3-C635-4846-8D84-1469B9D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066-1765-40EA-87E1-549F87F4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72A-95CB-45A8-B37A-67A3A8AC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AB2-1A08-42B1-BFEA-8752E18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5BF-8DA8-48B8-8E17-DCF5B19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42D-6BBC-401A-98C6-C34302D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BAC-1999-41CB-948F-BE0D1200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F1B-2096-477A-86F9-3299DEF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146-EB4F-45D5-8ADF-AB87930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055-CAE6-481B-8ED7-EF98F24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4D6-4614-4678-BDAD-B8356B7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510-A587-485C-BD46-6F7FA203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¿Cómo funciono el expression on a controversial topic en la gente que escuchó el prog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al escuchar lo que Orson Welles estaba relatando empezaron a intrigarse por lo que el locutor estaba diciendo y la forma en que lo relataba que parecía ser tan real, pero aún así la gente guardaba sus comentarios y sus especulación ante el hecho “paranorm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2.- ¿Cómo funcionó el expression of an attit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entras la narración en la transmisión fue avanzando, la credibilidad sobre la misma también, la gente empezó a creer que aquello no se trataba de ninguna broma ni de algún programa sobre hechos paranormales, y muchos radioescuchas empezaron a caer en crisis y ataques de pá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3.- ¿Cómo funcionó el attit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empezó a tomar medidas drásticas, como el cerrar sus casas con seguro y no salir de ahí hasta que se supiera bien lo que ocurría, muchos más entraron en pánico y la estación radiofónica donde se transmitía el “suceso paranormal” recibía y recibía miles de llamadas por parte de radioescuchas atemorizados ante ta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4.- Cita un ejemplo de las tres partes del postulado expresadas en la pregunta anterior que hayas detectado en algún asunto que haya sido discutido en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aso tan famoso sobre el tema de la “influenza”, cuando empezó a surgir el brote de este virus, la gente se mantenía un tanto incrédula ante el mismo, posteriormente se empezaron a dar varios supuestos casos de gente enferma y muerta a causa de el y así la gente empezó a tomar medidas como el no salir para nada de sus casas, y a no usar el transporte público (camiones), posteriormente después de varios días, mucha gente tomó la decisión de salir de sus casas, unos pensando que el virus se había ido, y otros tantos pensando en que todo eso había sido una farsa por parte d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8:32:04Z</dcterms:created>
  <dc:creator>MARCO</dc:creator>
  <dc:description/>
  <dc:language>en-US</dc:language>
  <cp:lastModifiedBy>MARCO</cp:lastModifiedBy>
  <dcterms:modified xsi:type="dcterms:W3CDTF">2009-09-27T18:42:42Z</dcterms:modified>
  <cp:revision>2</cp:revision>
  <dc:subject/>
  <dc:title>¿Cómo funciono el expression on a controversial topic en la gente que escuchó el programa?</dc:title>
</cp:coreProperties>
</file>